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766-A06B-4574-841B-FDABEAB4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DAC-52B3-48D8-8597-49091CFE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636-0A57-49D1-B65B-C9FBDAC7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F5E-ACA5-49F5-B1A0-BC597B22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6BD4-14C2-460E-A74E-18689282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F3FA-ADE7-47A4-BBE6-22D94F0A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52E4-4F29-4012-AAA1-7A4A731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B496-AFFA-4B33-A53A-05F69C46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F19B-65BE-4D61-8212-685F612F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0A29-8516-465C-A6EA-9971C687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3298-90EC-428D-BB31-BC97C7B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0FF-86A8-464F-8F43-13198EBB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F1E6-B6E9-4970-B265-C32DAFF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FD6A-088F-4C4F-B6E3-E96FA002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84C9-FAB2-4533-943D-F5F554D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8607-AED4-4734-98AE-A32F7F9A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070-C56D-498C-9BD2-BAB1A0C5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FF7-9326-41AC-BC04-274C89E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5E0-3B38-4A86-85A9-E93E1417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2BD-8A87-4DA4-9584-73FFF91A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E63-4F5F-44CB-8254-2C0C9C26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B15-6A2A-48D9-8744-C7BAE5A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C24-D41E-4F9B-A24A-0865EF2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F00-3693-4E78-9180-212FB8AC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FFF8-4601-4EA2-8F5C-7384FAEA95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D57A-B885-43D8-AC05-F97CCCDA2F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ревнегреческий Лике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льгельм Кюхельбек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90800" y="1066680"/>
            <a:ext cx="5186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ван Пущин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8108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238720" cy="609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5238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39996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1T14:26:58Z</dcterms:created>
  <dc:creator>1</dc:creator>
  <dc:description/>
  <dc:language>en-US</dc:language>
  <cp:lastModifiedBy>1</cp:lastModifiedBy>
  <dcterms:modified xsi:type="dcterms:W3CDTF">2018-12-07T19:59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